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0E9-67E2-40E6-8052-F5835864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548-3F42-4F2B-A779-E2AC0A80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74A-4D7F-44E0-A963-C32EEAC6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5DF-7791-4CE9-8028-68FD726D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666-D07C-4626-915A-941BFF30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E6C8-004D-4EAC-828D-A197BA1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8885-2F72-4578-B44E-12AE1268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8718-E056-4C8C-AE89-3EAECBA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6BA-0C6D-419F-AF45-4026418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1B59-50D8-44EB-B782-01C026DD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1A63-F007-4E1E-9F30-D3619A02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825-76BF-468D-9418-CA3E05B9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D44B-F24F-4A88-8F74-6B21F1C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F4DA-700A-4CA0-A2EE-8993D4F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2F0-B4A8-4AE3-9964-F691AA64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C7A-1172-4D27-A8AA-4BCC3DD7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4A6A-3ED5-4C22-9638-D72BDA19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98D2-D6DB-4303-8EAF-EA6CB126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6208-BE22-406E-966A-CEC36D15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634B-4763-41E5-8BDD-27DFE4CD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A54B-0E33-4D88-A07A-EA2DEF89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207B-1F42-4C13-A807-272D1453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75E-8562-4096-9A22-8634264A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37A2-FEF9-4DE6-BFD6-5B3973A6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4347-D8C0-4764-9DA3-D213AEF5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6929-FB03-4FC6-8AB1-143459E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3F61-FF9C-4B6D-A9C3-09233F0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0486-DFAC-46C8-8D20-028E578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53B1-00A5-4CB1-A746-3DD614EC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F82D-129E-4678-94F9-E6EBFB34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F91B-2653-4429-AE19-BAD316AE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625C0-22E5-4EEC-B333-39D40DE2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405D-1092-4222-B541-5D08137A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F14-EA7A-4F45-97CC-97969E93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68CC-74A5-4B58-9B88-5E6B3F7E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6F11-35AC-4074-AC7F-482B3A2F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1C12-DBE2-4E09-BFD1-A5C32E5B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E390-E587-4C9D-BB77-975512A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F239-2899-4C16-9EFF-74C9C9C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BE1B-DDF2-495D-B06A-0AC473C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7D3A-CB4F-44FB-B3B4-E280FB7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7FA9E-4F58-417A-B775-8F28E806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D0D7-E1CE-4D49-B9AA-9EA1F0C9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C8A4-1DEC-4900-9F75-18AB131D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A7F-0FE8-47D6-A617-C85C57F1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CAEF-F901-49B7-996A-2CDED108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261C-52AF-43EA-9A85-96E5F384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04E7-08B4-4E0A-A712-F42E409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4E38-E74D-4317-B092-1EBB06EF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1C97-D642-4D0E-B2C9-9354282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C0FA-0F48-4242-AAA8-CA236078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D7456-4F16-45B6-A6F7-302DACF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F8748-34A3-4ACD-9DFB-C83AAF6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A522-B833-489E-A31A-FE32F0D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1A8A-95BA-49C3-BE79-37420A24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673-CCE7-4443-9F4B-9DAC9A22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8CE6-22DD-4AF7-8B65-D1CD87C4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24CE-A5C7-4679-85A1-C50F764E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0E10-B139-4E41-9D2B-16026BD2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C80CF-0C52-4B22-8F33-0CDB464C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BA28-190E-4338-B86C-77A1CB6E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68BDB-7A56-4F74-86C4-DBE5F1D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3350-491E-49FF-8905-EF7312CE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1759D-3F89-4620-A945-4688441C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6B22-2341-4EC5-B8FC-D47FD48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1E82-00A2-4E04-B7B2-BE3A395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5D0-1787-45EA-898E-24EE77D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11437-01EB-4711-95C4-395434A5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A881E-2455-4B14-AE1C-9A685965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18057-182C-46CD-8B44-59A7DD3A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BF30-50E9-4DA6-BDC7-E56E2577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12F1-42CD-495F-8F9B-233F8365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6587E-FF91-4366-ADF3-54B83A3D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42488-FB28-465B-9ACB-4B369410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9A54-5097-41B5-8CE4-9228DDD5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0FD32-B916-4072-B267-C2C9089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77945-82FD-4537-B724-C7AA651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21E-A7AC-40DB-A791-FFEAF194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3DB1E-67CC-4943-8534-F6CF914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5A0A-E79B-4F3D-B21B-0852647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33F7-F10F-473E-A724-813F57E4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9C16-0EE4-4569-AD53-6AAFD2C0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3B779-4060-40A8-93C6-56FC1388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8C2-3E7C-43F3-A5B4-383A3F9F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D83-389D-4291-9A97-AA1F6889958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4B5-0AF6-48B2-B622-2E12E038166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7600-C477-4788-BD7B-8195EAEDEB4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EC9-4B8D-4AB8-BDA1-1144967626C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9AB-AA5A-48A5-AA1D-E17270B5B8C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39BA-FE88-4DB0-904B-03A7A5CA7FC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A797-0B3B-4129-926B-89302F0E39C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1406160"/>
            <a:ext cx="7848720" cy="27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SS8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Forms of Culture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the physical objects produced and or used by the society they belong to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aterial Culture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3e87"/>
                </a:solidFill>
                <a:latin typeface="Candara"/>
              </a:rPr>
              <a:t> </a:t>
            </a: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refers to non-physical elements of a culture. It includes language, ideas, stories, ideas, myths, legends, religious beliefs, and ways of behaving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on-material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are the stories, traditions, beliefs, and opinions, passed down from one population to the next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raditional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914400" y="22856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10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are the stories, traditions, beliefs, and opinions shared by a large number of people, change frequently, and are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often shared through the use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en-US" sz="4100" spc="-1" strike="noStrike">
                <a:solidFill>
                  <a:srgbClr val="073e87"/>
                </a:solidFill>
                <a:latin typeface="Candara"/>
              </a:rPr>
              <a:t>of technology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opular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is the culture shared by the majority in a population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ainstream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3e87"/>
                </a:solidFill>
                <a:latin typeface="Candara"/>
              </a:rPr>
              <a:t>is the culture of smaller groups (minority groups)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ontributing Cultur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12:47Z</dcterms:created>
  <dc:creator>ladmin</dc:creator>
  <dc:description/>
  <dc:language>en-US</dc:language>
  <cp:lastModifiedBy>ladmin</cp:lastModifiedBy>
  <dcterms:modified xsi:type="dcterms:W3CDTF">2014-11-13T01:36:38Z</dcterms:modified>
  <cp:revision>4</cp:revision>
  <dc:subject/>
  <dc:title>PowerPoint Presentation</dc:title>
</cp:coreProperties>
</file>